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721040"/>
            <a:ext cx="585144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646-C22C-4539-AF2D-4927EF7A88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FA07-E8CC-449D-AE2C-BA0F833905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960" y="4417560"/>
            <a:ext cx="6508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OLD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01. Mar.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200" y="38160"/>
            <a:ext cx="672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EGOLDlite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DORADO DS 03.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467000"/>
          <a:ext cx="9144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7000"/>
                    <a:ext cx="9144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LD 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get DORADO DS 03.0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0000" y="1235160"/>
            <a:ext cx="8517960" cy="4989960"/>
            <a:chOff x="270000" y="1235160"/>
            <a:chExt cx="8517960" cy="4989960"/>
          </a:xfrm>
        </p:grpSpPr>
        <p:sp>
          <p:nvSpPr>
            <p:cNvPr id="98" name=""/>
            <p:cNvSpPr/>
            <p:nvPr/>
          </p:nvSpPr>
          <p:spPr>
            <a:xfrm>
              <a:off x="270000" y="1235160"/>
              <a:ext cx="8517960" cy="49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3360" y="1235160"/>
              <a:ext cx="842904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asures to get DS on 03.06.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se synergies between LIBRA and DORADO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DORADO uses same PCB like LIBRA. Almost same population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SW is 90% same like LIBR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ta TA based on LIBRA instead of full 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lot Run w/o S3-HW as DORADO bases on LIBRA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Like in LEOPR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ork on the weekend and over May festiv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PRECONDI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ONLY WHEN LIBRA RUN SMOOTHLY IN THE PILOT SERIES DORADO CAN DO AS WELL!!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85 product project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98960" y="207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660320" y="21272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660320" y="2340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660320" y="192384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99872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a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65240" y="1292400"/>
            <a:ext cx="6765480" cy="1772280"/>
            <a:chOff x="1965240" y="1292400"/>
            <a:chExt cx="6765480" cy="1772280"/>
          </a:xfrm>
        </p:grpSpPr>
        <p:sp>
          <p:nvSpPr>
            <p:cNvPr id="107" name=""/>
            <p:cNvSpPr/>
            <p:nvPr/>
          </p:nvSpPr>
          <p:spPr>
            <a:xfrm>
              <a:off x="1965240" y="1292400"/>
              <a:ext cx="6765480" cy="177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5640" y="1292400"/>
              <a:ext cx="669528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lpha 03.11.04 </a:t>
              </a:r>
              <a:r>
                <a:rPr b="1" lang="en-GB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17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9.10.0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10.12.04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26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8.11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23.12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21.07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8.01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30.08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KA</a:t>
              </a:r>
              <a:r>
                <a:rPr b="1" i="1" lang="en-US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30.11.05 (150k, VK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 was declared on 28.01.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 prototype shop was finished and the A1 prototype evaluation i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0% of MD data has been finish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F PPL issue needs to be closed ASA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7800" y="6389640"/>
            <a:ext cx="6765480" cy="306360"/>
            <a:chOff x="577800" y="6389640"/>
            <a:chExt cx="6765480" cy="306360"/>
          </a:xfrm>
        </p:grpSpPr>
        <p:sp>
          <p:nvSpPr>
            <p:cNvPr id="110" name=""/>
            <p:cNvSpPr/>
            <p:nvPr/>
          </p:nvSpPr>
          <p:spPr>
            <a:xfrm>
              <a:off x="577800" y="6389640"/>
              <a:ext cx="6765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200" y="6389640"/>
              <a:ext cx="6695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KA shortcut for Market Availability what means a certain quantity at a certain time at a certain loca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5400000">
            <a:off x="1398960" y="51220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660320" y="51750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660320" y="5387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660320" y="49719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504684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65240" y="4429080"/>
            <a:ext cx="6765480" cy="1710720"/>
            <a:chOff x="1965240" y="4429080"/>
            <a:chExt cx="6765480" cy="1710720"/>
          </a:xfrm>
        </p:grpSpPr>
        <p:sp>
          <p:nvSpPr>
            <p:cNvPr id="118" name=""/>
            <p:cNvSpPr/>
            <p:nvPr/>
          </p:nvSpPr>
          <p:spPr>
            <a:xfrm>
              <a:off x="1965240" y="4429080"/>
              <a:ext cx="676548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5640" y="4429080"/>
              <a:ext cx="669528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Malph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27.06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6.02.06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25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19.09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9.03.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08.04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15.11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3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05.01.0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M0 workshop will be scheduled on Mar. 21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s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Mar. 25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he 90% ID data for first mockup had been come out on Feb. 26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The requirements of BT, external RF connector and rotated display are under investigation. The final decision will be available on Mar. 4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395720" y="3631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657080" y="36846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56720" y="389700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657080" y="348120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355608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2000" y="3129120"/>
            <a:ext cx="6766200" cy="124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8320" y="3090960"/>
            <a:ext cx="669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15  22.07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  17.03.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  3.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   07.10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  07.04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   29.0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 22.12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  25.05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   10.2.0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KA</a:t>
            </a:r>
            <a:r>
              <a:rPr b="1" i="1" lang="en-US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17.03.06 (100k, VK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No M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First Primavera schedule does not reach MKA 01/06. Improvement ongoing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11:40Z</dcterms:created>
  <dc:creator>Claus Ziegler</dc:creator>
  <dc:description/>
  <dc:language>en-US</dc:language>
  <cp:lastModifiedBy>Claus Ziegler</cp:lastModifiedBy>
  <cp:lastPrinted>2004-02-29T14:41:19Z</cp:lastPrinted>
  <dcterms:modified xsi:type="dcterms:W3CDTF">2005-03-21T09:23:32Z</dcterms:modified>
  <cp:revision>1</cp:revision>
  <dc:subject/>
  <dc:title>PowerPoint Presentation</dc:title>
</cp:coreProperties>
</file>